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27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5.png" ContentType="image/png"/>
  <Override PartName="/ppt/media/image23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C66-66E0-4DDE-89AB-CD9DAE4F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95A-5422-41E7-8A02-3241A02C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FAB-0881-4387-951A-258E4D189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2A3-6D94-4D6D-B917-F8F0CC74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2B71-1014-4BD9-97D1-58216CE5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2ACF-1F2F-4458-9BDF-E500EC07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9052-9A4A-4E2F-88BF-3A19219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8CC3-98A5-4A14-AA14-DC67BB5D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EFFA-3439-4C0C-B87E-DDD8E692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F1C7-7731-478E-9305-6F83D993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CCD2-DA43-4264-B7F6-0F975CCC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81CC-34AA-43A4-A33D-A7A2634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9E0F-6754-40A1-ACC4-705371D3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7F0A-3FF4-4C5C-B748-06C1F2C8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3749-3564-42FE-BC43-3DFD65BEA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7BB1-41B3-43D8-BE8C-1CCBFFC8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AE0B-52C7-479C-BAB7-334D15FF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4CB-93CC-4B63-BCFC-B44DB480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E3C0-35AC-46B5-8961-66533508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480-611E-41B5-B255-871DFEE1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049C-03DD-4F5A-8DAC-B931E08F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5461-48F3-49F5-AC48-B5C03FFE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947-694B-46FB-A7AB-0ABD727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0A24-B6C5-4B56-B99F-598D796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DAC-2F29-4707-B87C-635A3ADFF23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68B-109C-4C24-9C7B-19A97D8F61B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kesybelia.ocps.k12.fl.us/images/Excit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image" Target="../media/image15.png"/><Relationship Id="rId7" Type="http://schemas.openxmlformats.org/officeDocument/2006/relationships/image" Target="../media/image22.jpe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suzyred.com/subjects.html" TargetMode="External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Arial"/>
              </a:rPr>
              <a:t>Subject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Predicates</a:t>
            </a:r>
            <a:endParaRPr b="1" lang="en-US" sz="5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718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Arial"/>
              </a:rPr>
              <a:t>Project LA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Excit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2286000"/>
            <a:ext cx="218268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oke his fin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asked for direc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arried gu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arrived l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Simple Subject and Simple Predicate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very subject is built around one noun or pronoun (or more).  When all other words are removed the </a:t>
            </a: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lef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boy5"/>
          <p:cNvPicPr/>
          <p:nvPr/>
        </p:nvPicPr>
        <p:blipFill>
          <a:blip r:embed="rId1"/>
          <a:stretch/>
        </p:blipFill>
        <p:spPr>
          <a:xfrm>
            <a:off x="6638760" y="5562720"/>
            <a:ext cx="250524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Simple Subject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212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A </a:t>
            </a:r>
            <a:r>
              <a:rPr b="1" lang="en-US" sz="44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of chocolate cand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ould taste grea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762120" y="403848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word in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noun ``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'' with the other words of the subject -- ``a'' and ``of pepperoni pizza'' – tell about the noun. ``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ie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' is the simple su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candyeating"/>
          <p:cNvPicPr/>
          <p:nvPr/>
        </p:nvPicPr>
        <p:blipFill>
          <a:blip r:embed="rId1"/>
          <a:stretch/>
        </p:blipFill>
        <p:spPr>
          <a:xfrm>
            <a:off x="7124760" y="0"/>
            <a:ext cx="201924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imple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broth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Uncle Bo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oldi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babysi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Simple Predicate</a:t>
            </a:r>
            <a:endParaRPr b="1" lang="en-US" sz="6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imple </a:t>
            </a:r>
            <a:r>
              <a:rPr b="1" lang="en-US" sz="54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always the verb or verbs that links up with the subject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contacts"/>
          <p:cNvPicPr/>
          <p:nvPr/>
        </p:nvPicPr>
        <p:blipFill>
          <a:blip r:embed="rId1"/>
          <a:stretch/>
        </p:blipFill>
        <p:spPr>
          <a:xfrm>
            <a:off x="5410080" y="4343400"/>
            <a:ext cx="2178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Simple Predicate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2438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iece of chocolate candy </a:t>
            </a:r>
            <a:r>
              <a:rPr b="1" lang="en-US" sz="4400" spc="-1" strike="noStrike" u="sng">
                <a:solidFill>
                  <a:srgbClr val="cc0066"/>
                </a:solidFill>
                <a:uFillTx/>
                <a:latin typeface="Arial"/>
              </a:rPr>
              <a:t>would taste</a:t>
            </a:r>
            <a:r>
              <a:rPr b="1" lang="en-US" sz="4400" spc="-1" strike="noStrike">
                <a:solidFill>
                  <a:srgbClr val="cc0066"/>
                </a:solidFill>
                <a:latin typeface="Arial"/>
              </a:rPr>
              <a:t> grea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62120" y="4038480"/>
            <a:ext cx="8001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imple predicate is ``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would tas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'' -- in other words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verb of the senten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candyeating"/>
          <p:cNvPicPr/>
          <p:nvPr/>
        </p:nvPicPr>
        <p:blipFill>
          <a:blip r:embed="rId1"/>
          <a:stretch/>
        </p:blipFill>
        <p:spPr>
          <a:xfrm>
            <a:off x="6858000" y="4648320"/>
            <a:ext cx="2019240" cy="1933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05880" y="10627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imple 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5880" y="1062720"/>
            <a:ext cx="84657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imple 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brok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ask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arri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arrived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cc"/>
                </a:solidFill>
                <a:latin typeface="Arial"/>
              </a:rPr>
              <a:t>Compound Subject</a:t>
            </a:r>
            <a:endParaRPr b="1" lang="en-US" sz="6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2438280"/>
            <a:ext cx="7772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ntence may have a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-- a simple subject made up of more than one noun or pronou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5638680" y="533412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 Doub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7924680" y="27432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hiller"/>
              </a:rPr>
              <a:t>ACD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21"/>
          <p:cNvGrpSpPr/>
          <p:nvPr/>
        </p:nvGrpSpPr>
        <p:grpSpPr>
          <a:xfrm>
            <a:off x="4533840" y="2666880"/>
            <a:ext cx="4152960" cy="3962520"/>
            <a:chOff x="4533840" y="2666880"/>
            <a:chExt cx="4152960" cy="3962520"/>
          </a:xfrm>
        </p:grpSpPr>
        <p:sp>
          <p:nvSpPr>
            <p:cNvPr id="156" name="Rectangle 12"/>
            <p:cNvSpPr/>
            <p:nvPr/>
          </p:nvSpPr>
          <p:spPr>
            <a:xfrm>
              <a:off x="7772400" y="2666880"/>
              <a:ext cx="914400" cy="1143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5562720" y="5257800"/>
              <a:ext cx="990360" cy="1371600"/>
            </a:xfrm>
            <a:prstGeom prst="rect">
              <a:avLst/>
            </a:prstGeom>
            <a:gradFill rotWithShape="0">
              <a:gsLst>
                <a:gs pos="0">
                  <a:srgbClr val="6666ff"/>
                </a:gs>
                <a:gs pos="100000">
                  <a:srgbClr val="9999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7" descr="pennants1"/>
            <p:cNvPicPr/>
            <p:nvPr/>
          </p:nvPicPr>
          <p:blipFill>
            <a:blip r:embed="rId1"/>
            <a:stretch/>
          </p:blipFill>
          <p:spPr>
            <a:xfrm>
              <a:off x="7162920" y="4724280"/>
              <a:ext cx="1428480" cy="108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guitar-electric"/>
            <p:cNvPicPr/>
            <p:nvPr/>
          </p:nvPicPr>
          <p:blipFill>
            <a:blip r:embed="rId2"/>
            <a:stretch/>
          </p:blipFill>
          <p:spPr>
            <a:xfrm>
              <a:off x="7772400" y="2895480"/>
              <a:ext cx="81432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9" descr="rock-female"/>
            <p:cNvPicPr/>
            <p:nvPr/>
          </p:nvPicPr>
          <p:blipFill>
            <a:blip r:embed="rId3"/>
            <a:stretch/>
          </p:blipFill>
          <p:spPr>
            <a:xfrm>
              <a:off x="5864400" y="5562720"/>
              <a:ext cx="536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8" descr="frame3"/>
            <p:cNvPicPr/>
            <p:nvPr/>
          </p:nvPicPr>
          <p:blipFill>
            <a:blip r:embed="rId4"/>
            <a:stretch/>
          </p:blipFill>
          <p:spPr>
            <a:xfrm>
              <a:off x="6934320" y="5867280"/>
              <a:ext cx="1028520" cy="73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14" descr="family2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7162920" y="6019920"/>
              <a:ext cx="60948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19" descr="frame"/>
            <p:cNvPicPr/>
            <p:nvPr/>
          </p:nvPicPr>
          <p:blipFill>
            <a:blip r:embed="rId6"/>
            <a:stretch/>
          </p:blipFill>
          <p:spPr>
            <a:xfrm>
              <a:off x="4533840" y="5410080"/>
              <a:ext cx="64764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0" descr="cutekid"/>
            <p:cNvPicPr/>
            <p:nvPr/>
          </p:nvPicPr>
          <p:blipFill>
            <a:blip r:embed="rId7"/>
            <a:stretch/>
          </p:blipFill>
          <p:spPr>
            <a:xfrm>
              <a:off x="4648320" y="5486400"/>
              <a:ext cx="36504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4640" y="83412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Every complete sentence contains two parts: a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and 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what (or whom) the sentence is about, while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ells something about the subjec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hat"/>
          <p:cNvPicPr/>
          <p:nvPr/>
        </p:nvPicPr>
        <p:blipFill>
          <a:blip r:embed="rId1"/>
          <a:stretch/>
        </p:blipFill>
        <p:spPr>
          <a:xfrm>
            <a:off x="6400800" y="4419720"/>
            <a:ext cx="2133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85800" y="2362320"/>
            <a:ext cx="39625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pennants, rock posters and family photographs covered the boy's bedroom wall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bedroom1"/>
          <p:cNvPicPr/>
          <p:nvPr/>
        </p:nvPicPr>
        <p:blipFill>
          <a:blip r:embed="rId1"/>
          <a:stretch/>
        </p:blipFill>
        <p:spPr>
          <a:xfrm>
            <a:off x="4419720" y="3879720"/>
            <a:ext cx="4400280" cy="29782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8381880" y="4876920"/>
            <a:ext cx="370080" cy="3729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350120" y="4505400"/>
            <a:ext cx="398520" cy="4474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pennants1"/>
          <p:cNvPicPr/>
          <p:nvPr/>
        </p:nvPicPr>
        <p:blipFill>
          <a:blip r:embed="rId2"/>
          <a:stretch/>
        </p:blipFill>
        <p:spPr>
          <a:xfrm>
            <a:off x="7994520" y="4330800"/>
            <a:ext cx="578160" cy="35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guitar-electric"/>
          <p:cNvPicPr/>
          <p:nvPr/>
        </p:nvPicPr>
        <p:blipFill>
          <a:blip r:embed="rId3"/>
          <a:stretch/>
        </p:blipFill>
        <p:spPr>
          <a:xfrm>
            <a:off x="8458200" y="4952880"/>
            <a:ext cx="330120" cy="295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rock-female"/>
          <p:cNvPicPr/>
          <p:nvPr/>
        </p:nvPicPr>
        <p:blipFill>
          <a:blip r:embed="rId4"/>
          <a:stretch/>
        </p:blipFill>
        <p:spPr>
          <a:xfrm>
            <a:off x="7470720" y="4603680"/>
            <a:ext cx="217440" cy="27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frame3"/>
          <p:cNvPicPr/>
          <p:nvPr/>
        </p:nvPicPr>
        <p:blipFill>
          <a:blip r:embed="rId5"/>
          <a:stretch/>
        </p:blipFill>
        <p:spPr>
          <a:xfrm>
            <a:off x="7902720" y="4703760"/>
            <a:ext cx="415800" cy="2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family2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994520" y="4753080"/>
            <a:ext cx="246240" cy="122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frame"/>
          <p:cNvPicPr/>
          <p:nvPr/>
        </p:nvPicPr>
        <p:blipFill>
          <a:blip r:embed="rId7"/>
          <a:stretch/>
        </p:blipFill>
        <p:spPr>
          <a:xfrm>
            <a:off x="6934320" y="4554360"/>
            <a:ext cx="261720" cy="22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cutekid"/>
          <p:cNvPicPr/>
          <p:nvPr/>
        </p:nvPicPr>
        <p:blipFill>
          <a:blip r:embed="rId8"/>
          <a:stretch/>
        </p:blipFill>
        <p:spPr>
          <a:xfrm>
            <a:off x="6980400" y="4579920"/>
            <a:ext cx="1476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685800" y="2362320"/>
            <a:ext cx="403848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am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enn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rock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ost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family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photograph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vered the boy's bedroom walls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edroom1"/>
          <p:cNvPicPr/>
          <p:nvPr/>
        </p:nvPicPr>
        <p:blipFill>
          <a:blip r:embed="rId1"/>
          <a:stretch/>
        </p:blipFill>
        <p:spPr>
          <a:xfrm>
            <a:off x="4419720" y="3879720"/>
            <a:ext cx="4400280" cy="29782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8381880" y="4876920"/>
            <a:ext cx="370080" cy="3729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7350120" y="4505400"/>
            <a:ext cx="398520" cy="4474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pennants1"/>
          <p:cNvPicPr/>
          <p:nvPr/>
        </p:nvPicPr>
        <p:blipFill>
          <a:blip r:embed="rId2"/>
          <a:stretch/>
        </p:blipFill>
        <p:spPr>
          <a:xfrm>
            <a:off x="7994520" y="4330800"/>
            <a:ext cx="578160" cy="3538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guitar-electric"/>
          <p:cNvPicPr/>
          <p:nvPr/>
        </p:nvPicPr>
        <p:blipFill>
          <a:blip r:embed="rId3"/>
          <a:stretch/>
        </p:blipFill>
        <p:spPr>
          <a:xfrm>
            <a:off x="8458200" y="4952880"/>
            <a:ext cx="330120" cy="295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rock-female"/>
          <p:cNvPicPr/>
          <p:nvPr/>
        </p:nvPicPr>
        <p:blipFill>
          <a:blip r:embed="rId4"/>
          <a:stretch/>
        </p:blipFill>
        <p:spPr>
          <a:xfrm>
            <a:off x="7470720" y="4603680"/>
            <a:ext cx="217440" cy="274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frame3"/>
          <p:cNvPicPr/>
          <p:nvPr/>
        </p:nvPicPr>
        <p:blipFill>
          <a:blip r:embed="rId5"/>
          <a:stretch/>
        </p:blipFill>
        <p:spPr>
          <a:xfrm>
            <a:off x="7902720" y="4703760"/>
            <a:ext cx="415800" cy="2397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family2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7994520" y="4753080"/>
            <a:ext cx="246240" cy="122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2" descr="frame"/>
          <p:cNvPicPr/>
          <p:nvPr/>
        </p:nvPicPr>
        <p:blipFill>
          <a:blip r:embed="rId7"/>
          <a:stretch/>
        </p:blipFill>
        <p:spPr>
          <a:xfrm>
            <a:off x="6934320" y="4554360"/>
            <a:ext cx="261720" cy="2271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3" descr="cutekid"/>
          <p:cNvPicPr/>
          <p:nvPr/>
        </p:nvPicPr>
        <p:blipFill>
          <a:blip r:embed="rId8"/>
          <a:stretch/>
        </p:blipFill>
        <p:spPr>
          <a:xfrm>
            <a:off x="6980400" y="4579920"/>
            <a:ext cx="147600" cy="1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62120" y="2438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uncle and she walked slowly through the art gallery and admired the beautiful pictures exhibited t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artgallery"/>
          <p:cNvPicPr/>
          <p:nvPr/>
        </p:nvPicPr>
        <p:blipFill>
          <a:blip r:embed="rId1"/>
          <a:stretch/>
        </p:blipFill>
        <p:spPr>
          <a:xfrm>
            <a:off x="6705720" y="4767120"/>
            <a:ext cx="2243160" cy="224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subjects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2438280"/>
            <a:ext cx="7772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unc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s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walked slowly through the art gallery and admired the beautiful pictures exhibited ther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artgallery"/>
          <p:cNvPicPr/>
          <p:nvPr/>
        </p:nvPicPr>
        <p:blipFill>
          <a:blip r:embed="rId1"/>
          <a:stretch/>
        </p:blipFill>
        <p:spPr>
          <a:xfrm>
            <a:off x="6705720" y="4767120"/>
            <a:ext cx="2243160" cy="224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480" y="98640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ttle brother and my cousin broke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Uncle Bob and Aunt Betty asked for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soldiers and agents carried g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babysitter and her friend arrived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480" y="986400"/>
            <a:ext cx="85420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compound 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ittle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broth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y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cous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oke their fi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Uncle Bo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unt Bet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soldi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ag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babysit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er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frie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ed 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58160" y="986400"/>
            <a:ext cx="86184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cc"/>
                </a:solidFill>
                <a:latin typeface="Arial"/>
              </a:rPr>
              <a:t>Compound Predicate</a:t>
            </a:r>
            <a:endParaRPr b="1" lang="en-US" sz="6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762120" y="24382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is more than one verb relating to the same subj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cleaning"/>
          <p:cNvPicPr/>
          <p:nvPr/>
        </p:nvPicPr>
        <p:blipFill>
          <a:blip r:embed="rId1"/>
          <a:stretch/>
        </p:blipFill>
        <p:spPr>
          <a:xfrm>
            <a:off x="5562720" y="3505320"/>
            <a:ext cx="2732040" cy="296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predicate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62120" y="24382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 mopped and scrubbed the kitchen flo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crub"/>
          <p:cNvPicPr/>
          <p:nvPr/>
        </p:nvPicPr>
        <p:blipFill>
          <a:blip r:embed="rId1"/>
          <a:stretch/>
        </p:blipFill>
        <p:spPr>
          <a:xfrm>
            <a:off x="3352680" y="4114800"/>
            <a:ext cx="2133720" cy="1996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cleaning"/>
          <p:cNvPicPr/>
          <p:nvPr/>
        </p:nvPicPr>
        <p:blipFill>
          <a:blip r:embed="rId2"/>
          <a:stretch/>
        </p:blipFill>
        <p:spPr>
          <a:xfrm>
            <a:off x="6400800" y="3276720"/>
            <a:ext cx="2451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Can you find the compound predicate?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24382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mopp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scrubbed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 kitchen floo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scrub"/>
          <p:cNvPicPr/>
          <p:nvPr/>
        </p:nvPicPr>
        <p:blipFill>
          <a:blip r:embed="rId1"/>
          <a:stretch/>
        </p:blipFill>
        <p:spPr>
          <a:xfrm>
            <a:off x="3645000" y="4724280"/>
            <a:ext cx="2133360" cy="1997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leaning"/>
          <p:cNvPicPr/>
          <p:nvPr/>
        </p:nvPicPr>
        <p:blipFill>
          <a:blip r:embed="rId2"/>
          <a:stretch/>
        </p:blipFill>
        <p:spPr>
          <a:xfrm>
            <a:off x="6692760" y="3886200"/>
            <a:ext cx="24512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ttle brother bruised and broke his fing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ncle Bob looked and asked for dire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ose soldiers carried and used gu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9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babysitter overslept and arrived l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un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2" name="Picture 4" descr="beach1"/>
          <p:cNvPicPr/>
          <p:nvPr/>
        </p:nvPicPr>
        <p:blipFill>
          <a:blip r:embed="rId1"/>
          <a:stretch/>
        </p:blipFill>
        <p:spPr>
          <a:xfrm>
            <a:off x="1371600" y="2362320"/>
            <a:ext cx="6781680" cy="4660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dogrun"/>
          <p:cNvPicPr/>
          <p:nvPr/>
        </p:nvPicPr>
        <p:blipFill>
          <a:blip r:embed="rId2"/>
          <a:stretch/>
        </p:blipFill>
        <p:spPr>
          <a:xfrm>
            <a:off x="3276720" y="2133720"/>
            <a:ext cx="1547640" cy="4476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ogging"/>
          <p:cNvPicPr/>
          <p:nvPr/>
        </p:nvPicPr>
        <p:blipFill>
          <a:blip r:embed="rId3"/>
          <a:stretch/>
        </p:blipFill>
        <p:spPr>
          <a:xfrm>
            <a:off x="5638680" y="3657600"/>
            <a:ext cx="2133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98640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ompound predicate</a:t>
            </a: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120" y="244764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bruis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broke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 fi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 Uncle Bob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look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ask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dire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ose soldiers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carri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us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gu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85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ur babysitter 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overslept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400" spc="-1" strike="noStrike">
                <a:solidFill>
                  <a:srgbClr val="cc0066"/>
                </a:solidFill>
                <a:latin typeface="Arial"/>
              </a:rPr>
              <a:t> arrive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91320" y="3805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Arial"/>
              </a:rPr>
              <a:t>Now that you know all about subjects and predicates, try the subject and predicate song and sing along!</a:t>
            </a:r>
            <a:endParaRPr b="1" lang="en-US" sz="44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215" name="Picture 4" descr="clickheren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4876920"/>
            <a:ext cx="2057400" cy="907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kids_line_2"/>
          <p:cNvPicPr/>
          <p:nvPr/>
        </p:nvPicPr>
        <p:blipFill>
          <a:blip r:embed="rId3"/>
          <a:stretch/>
        </p:blipFill>
        <p:spPr>
          <a:xfrm>
            <a:off x="2133720" y="914400"/>
            <a:ext cx="4724280" cy="110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Judy and her dog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un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on the beach every morning.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ver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then make a question by placing ``who?'' or ``what?'' before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ogging"/>
          <p:cNvPicPr/>
          <p:nvPr/>
        </p:nvPicPr>
        <p:blipFill>
          <a:blip r:embed="rId1"/>
          <a:stretch/>
        </p:blipFill>
        <p:spPr>
          <a:xfrm>
            <a:off x="7162920" y="5029200"/>
            <a:ext cx="118584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ogrun"/>
          <p:cNvPicPr/>
          <p:nvPr/>
        </p:nvPicPr>
        <p:blipFill>
          <a:blip r:embed="rId2"/>
          <a:stretch/>
        </p:blipFill>
        <p:spPr>
          <a:xfrm>
            <a:off x="6629400" y="4724280"/>
            <a:ext cx="471600" cy="1809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1066680" y="4419720"/>
            <a:ext cx="4724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nswer is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, Judy and her do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Let’s try one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spilled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33526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ver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is sent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popcorn1"/>
          <p:cNvPicPr/>
          <p:nvPr/>
        </p:nvPicPr>
        <p:blipFill>
          <a:blip r:embed="rId1"/>
          <a:stretch/>
        </p:blipFill>
        <p:spPr>
          <a:xfrm>
            <a:off x="7391520" y="304920"/>
            <a:ext cx="1523880" cy="1657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boygirlyeah"/>
          <p:cNvPicPr/>
          <p:nvPr/>
        </p:nvPicPr>
        <p:blipFill>
          <a:blip r:embed="rId2"/>
          <a:stretch/>
        </p:blipFill>
        <p:spPr>
          <a:xfrm>
            <a:off x="4724280" y="838080"/>
            <a:ext cx="28576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8618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Arial"/>
              </a:rPr>
              <a:t>Now find the subject:</a:t>
            </a:r>
            <a:endParaRPr b="1" lang="en-US" sz="4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38080" y="33526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w decide who or what spilled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838080" y="5029200"/>
            <a:ext cx="769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6600"/>
                </a:solidFill>
                <a:uFillTx/>
                <a:latin typeface="Arial"/>
              </a:rPr>
              <a:t>W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spill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pcorn on the floo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ygirlyeah"/>
          <p:cNvPicPr/>
          <p:nvPr/>
        </p:nvPicPr>
        <p:blipFill>
          <a:blip r:embed="rId1"/>
          <a:stretch/>
        </p:blipFill>
        <p:spPr>
          <a:xfrm>
            <a:off x="6286680" y="5743440"/>
            <a:ext cx="285732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ubject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My little broth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broke his fing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His Uncle Bo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Those soldi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Our babysi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9100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Can you find the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redicate</a:t>
            </a:r>
            <a:r>
              <a:rPr b="1" lang="en-US" sz="4000" spc="-1" strike="noStrike">
                <a:solidFill>
                  <a:srgbClr val="9900cc"/>
                </a:solidFill>
                <a:latin typeface="Arial"/>
              </a:rPr>
              <a:t> in each sentence below?</a:t>
            </a:r>
            <a:endParaRPr b="1" lang="en-US" sz="4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>
              <a:spcBef>
                <a:spcPts val="11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 little brother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oke his fing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 Uncle Bob asked for dire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se soldiers carried gu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10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r babysitter arrived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3:24:38Z</dcterms:created>
  <dc:creator>Jefferson County Schools</dc:creator>
  <dc:description/>
  <dc:language>en-US</dc:language>
  <cp:lastModifiedBy>dyera</cp:lastModifiedBy>
  <dcterms:modified xsi:type="dcterms:W3CDTF">2010-10-01T12:33:19Z</dcterms:modified>
  <cp:revision>9</cp:revision>
  <dc:subject/>
  <dc:title>Subjects &amp; Predicates</dc:title>
</cp:coreProperties>
</file>